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378-6CD3-4084-BC15-42383E73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3A8-B126-4F1C-9B9E-1898023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130-6F11-4BDE-8FC9-B4ECAAB3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6FA-EF2D-40A6-8538-F97F0A68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F551-4BAB-4912-9CC2-60905C7C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8FB9-0F82-428E-B6B1-98AC6BA7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6C39-34B6-4668-937F-A102376E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BC9B-B59D-4577-9FC6-42CFDFB8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3696-B962-439D-8D6A-469E669F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7E4C-46E2-4B6A-8489-0704D5D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EED3-A110-4BC1-B78D-0E490DF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1C3-9EF7-4CE3-AE59-804C3AD9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D255-D84C-4D88-98CE-ABEA8076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0E06-B554-439B-AC8C-372703B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2274-E331-483F-8034-1F3942A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D22B-F379-4C3D-9612-8D12DA1A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22D5-4C3B-4B70-B9DF-AC8CC7B8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D06-DF8C-4EF4-B9C1-C8DFB643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C17-ACEA-44DB-B830-80E5AA41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E24-4A59-43F9-901B-8D79F997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C9E-4D7A-48AF-8CA6-7774B25F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0F3-622C-40C2-8A81-7AEE111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DDF-88B0-4B66-8AFE-A6659711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5DC-9C2B-411D-8F4D-0F25A7E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739B-7E4F-43FC-B560-31D73FEB2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795F-D6F3-4312-8024-71207DA2B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2743200" cy="1847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90920" y="4267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:Dana He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d you know whales are mamma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743200" y="2197080"/>
            <a:ext cx="39625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les eat fish, seal, squid and dolphi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at four times a day. Some times they kill other wh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362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y do not breath with gill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hales are under water they do not breath with gills. They breath with a blow h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31240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les are very large animal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20 feet long. They are bigger than 1 eleph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675240" y="3081240"/>
            <a:ext cx="37922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y are very fast animal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as fast as a shark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swim up to 30 miles per h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2438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 hope you had fun learning about wha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35240" y="868320"/>
            <a:ext cx="46720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20:21Z</dcterms:modified>
  <cp:revision>5</cp:revision>
  <dc:subject/>
  <dc:title>Animal Name</dc:title>
</cp:coreProperties>
</file>